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5FE-97AA-4312-BF35-B65B9F6C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87A1-D16F-47A8-84F7-47628BD8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6A1-CDC6-4EBE-8DA2-591CFB8C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B73-ABF4-4A08-942A-13FE2942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DE444-C96A-4044-8BDE-F32AE126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C188D-6142-4D06-8E56-FAAD2B5E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70CA9-B5EB-477E-A422-433FB0DB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33698-554D-4642-9FE3-73A09B3F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B989E-3B59-45B6-9B6C-5E7A4EB2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4767B-4A64-47B6-A0B9-E59B6665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73BEF-BC2E-432E-B5E2-92408E53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4B6-936B-43B1-B528-1D6B7F21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F8793-7983-4FD6-BA66-C6D8983F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D8385-007B-4D5C-97A9-BD694795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4E01A-DCF1-47C1-93DF-AAE72279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AA5D9-1F15-4622-BA34-0831DE33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8FF60-3FDF-43AB-BC77-F2258729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8E7A-4829-4404-A46C-6874A4C7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EA5-166D-4F1B-8947-1905D243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FD6-9891-4A6B-84A0-D75223B7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022-0885-4943-B798-BC7B8D41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3A9C-6272-4B51-82B5-A6BBBCA4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1DC-DE64-4E4D-8AEA-0D1263B0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3E2A-99FF-4D83-8067-577AD437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84F6-8173-439F-B169-2C81DAF024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F64F-4312-4DEB-BF25-DC97F4E03A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un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827000"/>
            <a:ext cx="4033800" cy="40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meet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ect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word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ection: 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onym: Never s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onym: recogn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llable: re/u/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59320" y="1600200"/>
            <a:ext cx="2621160" cy="216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nounce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a spe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 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announ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: spe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ynoym: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A/nnounce/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</cp:lastModifiedBy>
  <dcterms:modified xsi:type="dcterms:W3CDTF">2008-12-16T21:56:40Z</dcterms:modified>
  <cp:revision>7</cp:revision>
  <dc:subject/>
  <dc:title>PowerPoint Presentation</dc:title>
</cp:coreProperties>
</file>